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6F0-57D4-44B0-9795-54EAF72E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E6A9-F902-4A6D-9034-1E0DD10E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D83D9-A7B8-40A4-BAE3-4605F60F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FA25A-76E5-4251-B9E6-324885BA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49EB0-9EEC-46C7-A147-DBC38A09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F3D7A-045A-4136-B7FE-04D2DD86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25955-BCEA-4A98-B1CB-39F9E7BB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0ABB2-1C3A-4A0D-9DA1-1E1E1CC5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BACFD-1FE8-42FF-896B-463EFD8C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15813-04BC-404A-BFFA-02D518A2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28503-E99E-4E6E-9542-DFCE011C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365BC-5455-4670-B7AA-FAB2764C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DCE-5852-4906-AD86-B10967C9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97BF4-9033-435F-8F88-C81E7A0A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2DFA9-9750-4209-B29C-F12B2CCA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E0C62-4EFE-4D36-BB42-BE121CAC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8EFA0-D531-4DDB-B36A-111E1399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FF37B-748D-4709-8822-A845650C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A319E-D4C1-4E1C-B4CD-0BEEAE15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4336C-ABC5-461C-8F52-AB5E67AC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E1002-0BC8-49C1-942E-E1CDFDCC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CBDC4-7B35-442C-8404-A9384D54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9224D-A19C-4FF3-B209-24C24795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0B2-E57B-4305-B774-EE1FABED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6A17A-BC2B-4715-B008-D90D484B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61B6D-D8A4-416C-A658-A44165B7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E5984-162B-45F0-850C-6DC9748B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A7287-9D2D-4FF4-ADA0-4DB61454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41F61-471C-432E-9015-ED579B7C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E8E1B-088B-4C3C-974F-48217293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F816D-90AF-4132-9B93-1A932502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7F8FF-A583-433C-A3E0-837634CC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B613F-BC3B-4EBF-9418-B4D4EE73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E363E-0F02-4FA7-B4A6-B2FDEBD8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1303-ADCA-43F8-93B4-49091F8E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CE5F0-E062-46C7-ACFD-BC23B4B9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FCE5A-D134-47D5-A5CB-AC0369F7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D2808-0EBC-4492-BC99-05292B0D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21B95-1854-4899-9AE7-708B50D4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6ABB1-39E8-4F03-BC15-B9C47DD5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C7BF3-1956-4B54-BCF4-0DA2312F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889EA-F6C0-4C5C-B7D7-EAD32818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916C2-E263-4CE6-AA2A-2B0FC438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093B7-C122-4081-B1E0-ED6C1D3C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702CC-3FD4-4223-8385-58B2F4B1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25DC-F131-4E93-8B4C-C2032B56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AE19E-588E-4478-9BFA-95759E43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10CAD-5142-4BDB-B0C5-F9FFB9E1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8BF6A-465A-4F9B-99A8-3C1BCA5A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C93A0-E7AC-49D8-8333-A7EAF3D8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BC414-AA60-4262-B6F6-93F01F6D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00BDA-F7E2-4590-9027-B6EFD873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40C56-C078-46DB-8D70-1E7119D6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A3455E-7C31-4EDC-A23C-817D539A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650E3-3EEE-4910-8D6F-818D3DB0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28828-B88D-4E6E-A2BB-47CBD761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7A64-AF59-4389-9367-ECB908A1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A37DA-6544-43AF-B6E9-7E2B616C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98B93-2358-45B3-B10E-088643DB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55FEA-46BE-4649-95B1-ED7EF588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84D507-89A0-4023-BBA0-FD6489DF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3B2E44-90D9-4E58-A64A-5FB9A66F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500520-2607-434E-A8C0-DB3B32A7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B3E6C-5251-4968-87D7-3625C1D3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A8EB6B-18EB-44A5-9A59-5D8FDB0C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9A5948-E596-480B-93C7-0EB0BCED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CC09EF-4172-450A-959D-4CEE1D00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9575-B681-493F-BA10-43E2CE6E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A9B693-6487-4BAF-9431-5E3EBDE5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413C36-4C89-48B0-A93F-9D22F747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AFB977-FE76-4A44-96AA-DB3869E6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375F3-666E-4983-B76F-1AAA1BFA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A8220A-6B3D-456E-B74F-597B137F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C6543B-79DE-4DF9-9962-159E4153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BFB735-583F-4E9E-B024-308FEA39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E862F-A67E-479F-BC89-87E62662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4738DA-9769-488A-9BB6-DCC648EF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60D665-728C-46E4-B1B8-38389C71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DCC8-4644-497F-BE41-0698D96E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5EDA0-6A96-4075-925F-5072B5EF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C065EF-51B6-401D-9DBD-769EEDE7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A4BCCD-1DF1-4AAF-B50A-A5FD3E23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0834E-67CB-4B8D-AB1D-5987F5D9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59611C-FDDD-4DBB-BFBE-F4DF2E11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B71259-D716-4217-A94B-4C787BBA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CB159B-B1DA-467C-9EE3-594EDC09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68385-820E-4E97-8061-2A204A60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16AF42-8086-452E-B6F3-42697A6A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6FB3D4-8B6D-4201-ADF4-F886B81F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5934-A256-42FE-B72E-278F702F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F814FE-7FCD-4B48-AFE1-AAB252A7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4E5624-70BD-4A1F-B836-94FA572E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A56A06-0710-4EA8-959E-ECD526E3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0DC5A5-CC19-410D-89F6-63D7A413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285E7A-CF72-4957-91BC-35870D8A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AB8262-F77E-457E-8B26-0B870F77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C164AD-6210-42C0-B5C7-AAA57155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10E49F-3CCC-483D-B639-414E1336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7DCE5-0925-4341-9253-0AB90319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ACE41D-B161-4A81-A46E-39E59CDF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9E3C-EDFE-4AC7-9540-EAF92077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C34050-A43E-4694-9640-1CEF3625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E33187-7207-45BE-8E3A-5279F8FE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909B71-5170-4AD2-9768-DB96838A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05507B-0AC0-44AB-9B6E-8608416E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73D01D-AD28-4F41-B472-10F3D285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4A67A1-BDFD-47D3-BF96-7D9CE4A0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C24DF1-4CCD-4BD3-834B-5D7F5F97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69D1EA-69C5-44C2-811D-3D8C82B9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03479F-AE0F-4CE5-8155-D69A8EC6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EF5E00-ED09-4E81-8206-F3620A6A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7A54-3E83-43BE-B357-C6A27200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9F8D-04D4-4724-A81D-1941D866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471817-B727-4CA2-A289-7D90EC21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9E32F7-A3F4-4F0D-83E0-A53B6F1B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E365BC-AC60-4F0E-A69A-B89D63C8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AB6240-D33C-4805-9D9D-E56CDEA0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DB055B-D04A-4310-B47A-00317B36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498BD5-2795-4681-928D-A88BED9F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39087E-C04C-481C-AD0F-4F1755C8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2D6059-CE5E-4B91-81FE-02D61742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C7FE3A-7481-455C-A70A-68F1B2B0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F2419C-ED9F-4E15-B08F-6BD19329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DC8C-15DB-4280-A1FD-9CDC2CDE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05BA0A-92AB-4F8A-A778-E7EA95A1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ABEE70-366F-4F6C-B453-84756D79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9F95F5-F1B1-4784-9FEA-C2A5B332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D082D9-7D7B-4313-8EB7-3A685EE4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C855FC-290C-4288-B8DB-0D555EBD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F88F12-B874-4675-81DC-5A31AA32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72848F-8D99-4B44-816F-8A50BB54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583981-11C4-42A9-BE4A-CB5BB32C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6CF4F2-0912-4E22-AB3A-ABF9A0B6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616FC7-9716-4718-A579-C34E0875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AADC-E73D-48CD-AD3E-452A8FBC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31BE9E-DD2B-455F-A522-5C31D65F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8D3857-4CDD-4872-8D30-6239C5E6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1B13B0-EA2B-4D5E-96E1-D0A12660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20A12B-B68D-467F-A10E-1E4EA24A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29FA04-41F0-4924-8D2B-CD801F5E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2097CF-A261-46F1-BC0C-A89CA1E9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6BF8CB-F2FE-489F-BB54-0F34E8DD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F78F4A-7882-4F24-8690-F40BA5CD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85C7D1-C461-4D3B-BC16-90BAE6D4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2E2FE5-9AF4-4043-B626-0A7EEB98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89FB-FB2B-4313-9F30-EE4479A8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C5AA4C-461C-400C-9ED4-5C6F6D70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A78B84-20AE-446A-AE79-4992A904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B34A94-3159-4760-991B-4BAFE00F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0BCEEA-1814-457C-BDB5-7114A314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4E256F-6DCD-41A4-8263-67756939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C03985-2601-475D-96D0-D6C4EE3A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803826-E7C8-4A13-8879-5037B8DB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F3830B-0A4A-49D6-A33D-5941676E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95D047-8F4C-4508-8F92-C49D2C5D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5CA798-F4C5-4076-8E23-D0A1C533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BB0C-7F3F-40B6-A9C0-F8404D73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BF513F-8535-476D-99C7-79DBDAF5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82DA61-7F3A-479C-AF33-DE219AA5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F2A036-B1B8-4100-A657-345C9BEB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FA0C5C-CC8B-48F6-B458-8232CC07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5E016B-BAB2-4E4C-817B-B2019855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CFF4A0-E8F3-4E9F-BE62-2F87C349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13026A-9D36-42C0-9813-64B2CF46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BA5781-3997-4A95-86DC-8DD544D7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AC2CC7-FA62-4F09-B437-99143DAC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626E24-0FC5-4AD8-B4BC-0E161548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80381-0F1F-403E-B2CB-0CFBA916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FB07BE-656A-4278-9823-B1252AFE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E7BEA7-10B8-4E8C-B956-09E1ECDA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E3E8FA-158B-4093-92A9-364B897D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0BA80-B948-459D-A63B-53EE009E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3AF03-3556-431E-91CF-2A7BD0A5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1E9C3-D994-4987-8B1A-F961EBE0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E2D9B-D6C8-4C68-808D-0E69B640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F471-8623-4186-B375-BC5539AD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A49F2-364E-4EC4-B55D-C99D6813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A2678-39A7-4E59-9EC0-E9C09A66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4D179-7906-4406-A7B1-5D88E71B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3B3A7-717F-4901-9F95-0098750A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50D47-DD0B-4C4E-9E19-363281F5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0C32C-EB7F-4D66-A1C1-4033BC53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31883-D864-4852-9F02-1A2BD5B0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39AF9-04C4-4A40-AA07-759A3590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D537C-9916-4F2A-B01A-A2E0628C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125C9-5F63-4F49-9D9D-2B072B04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813-206F-4BD2-A8BA-E0430509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237EA-427E-4B16-911F-7D88582D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B0318-A139-42A4-B25E-E71E3D3D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83588-82A9-4D7B-9045-92A17173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8D77B-B757-4D01-8BC6-FD93AB40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18114-1E79-4814-B7CC-675A7EC4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68FBF-6F5A-46B3-8E1C-889DFCB2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03181-BBB9-48A6-931F-71CA8705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0DAAC-E9EA-4CD7-94F7-358E149D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7506C-5F07-4ACB-B743-7BC479A5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C8E8F-14E6-4CCE-BB6B-4AF31D14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917D-AC89-4926-AAD2-F68BF22F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66F7F-B2B9-451C-979C-5AC5283C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432AF-E765-433E-85B5-C727B965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3A8A8-1387-493D-AEB4-F77BA936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0A34A-79F8-4C81-9E8F-D4E50D83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E45C9-94E7-431C-BD3D-6D58EF8E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840B2-7DA3-413C-88C5-F8249F17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4957A-CFA0-4E5C-9D66-9F62541E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12CE2-9678-4C99-863A-F324F8EB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6BC86-163A-4ADF-A0B7-C85176B5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16D5D-AA53-4FE8-8B72-DB106A0E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002-B330-4CF1-A3C3-151599DD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87061-AE29-42CE-A298-28F2808D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B9EBE-7147-4B5B-8CA0-EB6C0816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DC79D-2BED-4E54-B7B0-9FE2A9CD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CAE0B-2417-4065-9648-A61426B9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B7389-99F1-4363-B52A-BA803A75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6CF19-AD81-4783-9759-001B03B3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ECC12-5736-45D9-8CB0-342B3E89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DAB06-A0EC-45F9-81EF-4AFF293C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65D14-FB8C-4EF6-99A9-B64F1D8D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2F487-CD5A-45DF-8381-F5F3EB29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B575-0F0F-4282-81C4-5EFB8691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2884B-8408-49B1-B017-5A1B6090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BEB04-8BE5-4EAF-8DEF-20D73B98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10510-1B46-47DB-A7B1-6C32FE54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2EDBA-46C0-4EB8-B605-9324EE87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9A85C-BEB2-4204-9A42-EE0D3CAA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145E5-2465-47A0-881B-CAF4571C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52E67-2C96-4CA5-8B93-280D586D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5C82E-1F42-4BF9-8708-094F14FE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D11ED-F038-4AAB-9AF8-39E809CA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284EA-79AE-4CE5-A842-CD554D9B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1BF5-7CB7-4E36-B870-DA69E0F9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C3A2B-0901-4078-A869-7AF3065E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A2C59-FD56-4653-AED7-73FBB2DB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8431D-8384-41C4-ACB2-8F6CCAFB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9DEDF-30FC-47B0-AA87-075839A0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B8421-7030-4708-A981-B35A649F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011AF-1113-493D-A770-95B0FE3B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B0DFE-264E-45B6-A88C-E473840A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585C2-7A08-428D-B5E7-855F24FC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C5392-996D-4CF7-8BBF-021A3939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CE82C-1B88-4BB6-986B-E473243C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654-40D9-4FAF-BD9B-1C6279AF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871DD-A1F7-45B8-BB2E-7123605E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4AFF5-B289-44CA-8D26-0BD98815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F9979-2A09-438B-8004-28EA375B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610E4-5456-484F-805B-5CFBDD9F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67484-4F89-4B8C-B772-C1536E9F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A188C-55D2-4A4D-8F76-17A22E04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244E9-C5C1-4EE0-BD4B-6B7E9102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E0A55-0245-4977-9355-8BAC6236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0E0ED-D8D4-4028-8E4B-EFFED174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5A833-3336-44AF-BDC9-39D37267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01B6-68BD-45EA-A382-5CD9CD53CB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7746-9B56-476C-9B7D-0EE362A8F4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6ABB-8D7E-43D9-98A5-D0A05B8B47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EBC8-1173-477F-A41B-EAC384A9DB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8FCF-CB49-4A6D-B58B-716997D490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6563-0F0A-4252-9E83-8B0180081B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9D55-5BBE-426B-A8DC-A669811E5C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0D2F-4488-4F6D-8FBE-7ACED8CE2A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AA17-4D13-4F40-84F9-21B103DB22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8298-114C-4C13-B550-42A3F2F0F2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AFD2-8E6E-40ED-ABA2-A3C5DE44A2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87B0-33B7-4750-9704-8708A9C936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0734-657E-413C-8126-1BFFEF7149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64E3-9262-4E6B-BBF1-6E1839CEEC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3120-D6B9-40C0-83CA-2156A66170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748C-04D2-4777-8D4F-A67826EF7E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32C8-1D0D-4F0B-B199-1002990F6D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DF28-1E71-43F1-B5AE-EEF6466AE7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1935-9388-4690-AB4F-157077DA50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2452-0EAE-473B-8B9F-B762809B74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68D1-A936-42A4-8BDE-77A96A6781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5E96-77AD-4507-81E7-E379FBAE60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8FF3-2A31-4FBA-8BFC-0A5BE593D4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1B92-35B5-4B73-8FB7-1D2A0FED3A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6FF9-5084-4B44-9DFE-4DF8935DC2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A297-1D54-4998-B03D-29E9F1F850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8D26-B660-47B6-9EFE-871D206E2A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A607-8EFD-4148-8FA3-840C8A6A9C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68BE-42DB-484E-A808-15EFEE4A84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F813-9808-41B2-8F6E-884D76C098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654E-0898-45D2-B689-3F82C1E39F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B7F2-843D-4361-B48B-89EDBA29FD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6189-22BE-415E-89F9-C4E3AF9084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C744-532A-4685-90C8-6C82C51F5E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A307-1F27-422F-B7FF-8CC22908DB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408D-856E-4F22-B8BE-F17FBBD017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B5E0-7B16-43F2-B50D-472572510C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FE9C-2520-45AB-B319-A256E34712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3158-9357-4E17-8E16-6B8B9E168A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7025-4559-4E31-AB25-51654856F5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028880" y="2733840"/>
            <a:ext cx="7086600" cy="13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04840" y="847800"/>
            <a:ext cx="8734320" cy="51624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403280" y="2421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484360" y="2349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716360" y="1427040"/>
            <a:ext cx="1943280" cy="3193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687920" y="188748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435640" y="1873080"/>
            <a:ext cx="330120" cy="3193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300720" y="18590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7408800" y="1830240"/>
            <a:ext cx="1411200" cy="3193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4687920" y="227664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5435640" y="2262240"/>
            <a:ext cx="330120" cy="3189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6300720" y="22622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7408800" y="2233440"/>
            <a:ext cx="1411200" cy="3193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1289160" y="41194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2455920" y="41180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4602240" y="3054240"/>
            <a:ext cx="1942920" cy="3193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4573440" y="3514680"/>
            <a:ext cx="287640" cy="318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5321160" y="3500280"/>
            <a:ext cx="330480" cy="3193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6186600" y="34862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7294680" y="3457440"/>
            <a:ext cx="1411200" cy="3193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4573440" y="3903840"/>
            <a:ext cx="287640" cy="3189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5321160" y="3889440"/>
            <a:ext cx="330480" cy="3189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6186600" y="38894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3"/>
          <a:stretch/>
        </p:blipFill>
        <p:spPr>
          <a:xfrm>
            <a:off x="7294680" y="3860640"/>
            <a:ext cx="1396800" cy="31932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60452" descr=""/>
          <p:cNvPicPr/>
          <p:nvPr/>
        </p:nvPicPr>
        <p:blipFill>
          <a:blip r:embed="rId24"/>
          <a:stretch/>
        </p:blipFill>
        <p:spPr>
          <a:xfrm>
            <a:off x="1735200" y="5084640"/>
            <a:ext cx="1019160" cy="41940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60453" descr=""/>
          <p:cNvPicPr/>
          <p:nvPr/>
        </p:nvPicPr>
        <p:blipFill>
          <a:blip r:embed="rId25"/>
          <a:stretch/>
        </p:blipFill>
        <p:spPr>
          <a:xfrm>
            <a:off x="7050240" y="5084640"/>
            <a:ext cx="1019160" cy="41940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60454" descr=""/>
          <p:cNvPicPr/>
          <p:nvPr/>
        </p:nvPicPr>
        <p:blipFill>
          <a:blip r:embed="rId26"/>
          <a:stretch/>
        </p:blipFill>
        <p:spPr>
          <a:xfrm>
            <a:off x="2124000" y="5589720"/>
            <a:ext cx="1019160" cy="41904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60455" descr=""/>
          <p:cNvPicPr/>
          <p:nvPr/>
        </p:nvPicPr>
        <p:blipFill>
          <a:blip r:embed="rId27"/>
          <a:stretch/>
        </p:blipFill>
        <p:spPr>
          <a:xfrm>
            <a:off x="6300720" y="5603760"/>
            <a:ext cx="10191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9410" descr=""/>
          <p:cNvPicPr/>
          <p:nvPr/>
        </p:nvPicPr>
        <p:blipFill>
          <a:blip r:embed="rId1"/>
          <a:stretch/>
        </p:blipFill>
        <p:spPr>
          <a:xfrm>
            <a:off x="181080" y="743040"/>
            <a:ext cx="8781840" cy="5371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1332000" y="2637000"/>
            <a:ext cx="1511280" cy="5047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2124000" y="3414600"/>
            <a:ext cx="1511280" cy="3193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2050920" y="3803760"/>
            <a:ext cx="1225800" cy="3189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3564000" y="3817800"/>
            <a:ext cx="1225440" cy="3193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5700600" y="2637000"/>
            <a:ext cx="1511280" cy="5047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7"/>
          <a:stretch/>
        </p:blipFill>
        <p:spPr>
          <a:xfrm>
            <a:off x="6492960" y="3414600"/>
            <a:ext cx="1103400" cy="3193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8"/>
          <a:stretch/>
        </p:blipFill>
        <p:spPr>
          <a:xfrm>
            <a:off x="6473880" y="3803760"/>
            <a:ext cx="1057320" cy="3189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9"/>
          <a:stretch/>
        </p:blipFill>
        <p:spPr>
          <a:xfrm>
            <a:off x="7932600" y="3817800"/>
            <a:ext cx="960480" cy="3193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0"/>
          <a:stretch/>
        </p:blipFill>
        <p:spPr>
          <a:xfrm>
            <a:off x="1619280" y="5229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1"/>
          <a:stretch/>
        </p:blipFill>
        <p:spPr>
          <a:xfrm>
            <a:off x="3132000" y="5229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2"/>
          <a:stretch/>
        </p:blipFill>
        <p:spPr>
          <a:xfrm>
            <a:off x="4873680" y="5229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61" name="图片 59422" descr=""/>
          <p:cNvPicPr/>
          <p:nvPr/>
        </p:nvPicPr>
        <p:blipFill>
          <a:blip r:embed="rId13"/>
          <a:stretch/>
        </p:blipFill>
        <p:spPr>
          <a:xfrm>
            <a:off x="2050920" y="5661000"/>
            <a:ext cx="177660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04:4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